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309-5087-4C56-8939-B062834E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991-8AE8-418D-BFC1-51F2209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86F-A7AF-496D-BB54-7185B5FE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AC4-F19C-4847-A3B4-96D170A1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DB2-B88F-4B0D-8DB2-EE9FA910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866-485D-4291-A059-0D5C4C0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88A-9747-4387-9CC2-6AAC6BA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7B6-2654-4251-8142-2AD80A4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24E-E63E-49AC-9D64-D939D0E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85C-BD36-4165-83F4-5C26DD2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5A4-99D4-4706-A2B9-6153127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BA0-E676-437C-83DB-C46268D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1367-B8E5-414F-8D1F-82D28130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0640"/>
            <a:ext cx="9144000" cy="6494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Царството Бож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първо потърс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и Неговата прав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всичко останал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Бог ще ти дар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Алилуя, Алилуя</a:t>
            </a:r>
            <a:r>
              <a:rPr b="1" lang="bg-BG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8195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Алилуя, Алилуя</a:t>
            </a:r>
            <a:r>
              <a:rPr b="1" lang="bg-BG" sz="8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Не само с хляб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ще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живее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тук човек,</a:t>
            </a:r>
            <a:r>
              <a:rPr b="1" lang="bg-BG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но със словата на Бога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звани с обич и милост от Христос.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Алилуя, Алилуя</a:t>
            </a:r>
            <a:r>
              <a:rPr b="1" lang="bg-BG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819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Алилуя, Алилуя</a:t>
            </a:r>
            <a:r>
              <a:rPr b="1" lang="bg-BG" sz="8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Искай със вяра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и Той ще ти даде, търси и ще намериш, чакай с надежда във твоето сърце!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Алилуя, Алилуя</a:t>
            </a:r>
            <a:r>
              <a:rPr b="1" lang="bg-BG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819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Алилуя,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Алилуя, Алилуя</a:t>
            </a:r>
            <a:r>
              <a:rPr b="1" lang="bg-BG" sz="8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22:29Z</dcterms:created>
  <dc:creator>TrifonTrifonow</dc:creator>
  <dc:description/>
  <dc:language>en-US</dc:language>
  <cp:lastModifiedBy>TrifonTrifonow</cp:lastModifiedBy>
  <dcterms:modified xsi:type="dcterms:W3CDTF">2005-12-15T06:22:58Z</dcterms:modified>
  <cp:revision>1</cp:revision>
  <dc:subject/>
  <dc:title>Slide 1</dc:title>
</cp:coreProperties>
</file>